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laser.wav" ContentType="audio/x-wav"/>
  <Override PartName="/ppt/media/image2.jpeg" ContentType="image/jpeg"/>
  <Override PartName="/ppt/media/chimes.wav" ContentType="audio/x-wav"/>
  <Override PartName="/ppt/media/wind.wav" ContentType="audio/x-wav"/>
  <Override PartName="/ppt/media/whoos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297D8-8E5E-48D4-B82F-D61F22B8F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A236-39AF-43FD-AA0D-92E0A108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C4155-8133-411B-874A-5F7B9BCE7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9908A-2141-4EB9-88DC-00622DD30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174F5-F37F-4D15-864B-3A907153B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BE3B8-9DA1-488D-B24F-577CF336E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C4B62-82E1-46D1-BF5D-2DD768FA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3CFA5-699F-4A47-A760-1CD1C1710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6E82-9604-419E-97B4-556CEABF6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46DB1-D749-4B2A-A518-EF25DCAA3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43D0B-8567-404B-906B-1B091D181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F8FA-CDBE-43A5-9E12-5E279A2C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D706-0D78-402D-A98F-E9C72B1A1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D33D7-62BB-48CF-8EFA-60C8383A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C46E9-1139-48A4-B4D5-8B60FED07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86F7B-D11A-40E3-B4E2-692C9BB84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5F183-4C6B-46F4-98CC-8B1D78730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521744-88DE-47FF-90D5-5EA8F769E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32A30-88A0-42F2-B8C9-BB6A42A90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004FD-C300-4760-9FB6-3171CFD8D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149D2-5420-49F8-AE19-A33732316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FF50FF-F93E-479A-9568-A60D5FD7F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7969-F0B4-48D4-AC9B-F23B0F05E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2A178-5FEA-4333-AA1B-9BE96491D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9065A-2B83-498E-8D8B-6A1B0EFFB9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5891A0-EE77-4B64-AA18-CC25B1356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BC2E0-5069-42B2-B82C-431E19543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A9084-308A-4043-AD25-757EE0B2D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34A834-2917-4A8F-8FDD-56556A6A2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9FE6EA-0704-40DF-87E8-B09557F1B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82867-D0BB-440D-B41B-C704B94CD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19B7C-D503-4A78-9553-1C5CCDEF0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1179C-C7A8-4E7B-9727-9452BFC44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66267-6B85-46F3-8510-A34E490B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5E9BF-D114-4746-81F1-7F635927C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0F359F-4FA5-4418-9D40-C94C9383F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62F12-CD58-4E2C-9EBC-361C34F80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E47D9-4496-40C2-91FC-116BB592C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C5283-F7FB-4255-94AE-90A98878E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93875-5C48-40D0-82F1-BF25E7B59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1074C-37A1-4D24-9166-5C4685057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300D3-F690-4714-A4A4-1A9DF9D223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E8EAC-D04F-4152-B029-D2F269FD28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65C421-5A4C-4AFA-B8E8-21EAEE7D4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D5BE-28AF-44BD-B768-30DB893C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BBC0B-F84C-45F9-91C2-72896629C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264C2-941B-4DF7-B7B2-EA12C731E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1D4EF8-A6C0-4248-B7B4-E0A833B86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494FF-95FB-4FBC-8085-51379866C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E7E622-DF29-4B89-88F0-EB81CAD32B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A3297-E03E-423B-B27C-33ABD2328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7D3F1-EC16-4EF7-B8D2-F4D9330CE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01578-8805-4391-AE2B-92794A299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EB9B2F-929E-48B1-A32E-89DB0F29D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9E51B3-B7F7-483D-A508-533E9B5443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B605-EBEF-4ABB-921A-9A92B6B6A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A3137-E8F5-490F-9D83-2331EF3837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F20D6B-4252-4AAA-8ACE-095748F5F9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964E5-0B6A-48A8-B261-6E43DD2EC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45BDF-2DBE-4680-A9B4-6ED67F73E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A63E0-9576-430C-9CBD-121F6AD193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BCA9F-9C6D-46E5-AB6A-F8995BF3B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C656A-692C-4A80-A880-B4069796A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8874B-9095-460E-AE49-632D82D21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187AF-7985-4935-8646-71618AB88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9F3ECE-C7E1-41C7-B86F-D327496D2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0452E-964F-4593-A2F8-5538BC4F9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FA72F7-4074-4BFD-8D94-4702BCF697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286BD4-C311-4F4D-AAB0-E99D449DD8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133714-4D92-4E87-A321-5D4BDA9A41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CC8D1E-883D-47D7-AA97-14A5600B92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B10ADD-F1DD-43E4-80C1-F2CAEE98E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9E72B-A588-4ED1-9732-A0BCF2216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ECFB7-AE96-4997-AAB5-0E313A03C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6640C-1A6D-40AB-BDAC-BFC0C0635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91A6E-734A-452A-BBFC-43092FFD9A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FCCE6-883E-4502-BEB4-566CD6349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462A-A1CA-4AE0-8472-9C9AD031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50B650-EE11-4207-B447-E6F544767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3CF65-646A-4203-B514-E575F9190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3ED11-278B-4E6B-B361-471B0B280D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AB6095-0464-4E5C-BDA5-BAC6EC3069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27BA6D-C71B-4988-A4EA-DA7D2CF94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ACBE-CBEE-4A3E-8392-783C49FA2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6B61-854E-4181-9197-FB17DA4561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D889-5AD6-44C4-A78A-4DE5E2F22FD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9C60-4D00-41A8-8B75-2DD46ACD3C5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09F1-B059-4402-8BCB-7BBA65E3A8A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4D19-300E-4BE4-9CA0-950179F5D5E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3615-6D3A-41B2-A11D-283485354FB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19 Grupo"/>
          <p:cNvGrpSpPr/>
          <p:nvPr/>
        </p:nvGrpSpPr>
        <p:grpSpPr>
          <a:xfrm>
            <a:off x="8516880" y="1217520"/>
            <a:ext cx="128160" cy="131760"/>
            <a:chOff x="8516880" y="1217520"/>
            <a:chExt cx="128160" cy="131760"/>
          </a:xfrm>
        </p:grpSpPr>
        <p:sp>
          <p:nvSpPr>
            <p:cNvPr id="316" name="20 Conector recto"/>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23 Conector recto"/>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24 Conector recto"/>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25 Grupo"/>
          <p:cNvGrpSpPr/>
          <p:nvPr/>
        </p:nvGrpSpPr>
        <p:grpSpPr>
          <a:xfrm>
            <a:off x="8669160" y="1370160"/>
            <a:ext cx="128880" cy="131760"/>
            <a:chOff x="8669160" y="1370160"/>
            <a:chExt cx="128880" cy="131760"/>
          </a:xfrm>
        </p:grpSpPr>
        <p:sp>
          <p:nvSpPr>
            <p:cNvPr id="320" name="26 Conector recto"/>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27 Conector recto"/>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28 Conector recto"/>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29 Grupo"/>
          <p:cNvGrpSpPr/>
          <p:nvPr/>
        </p:nvGrpSpPr>
        <p:grpSpPr>
          <a:xfrm>
            <a:off x="8321760" y="1473120"/>
            <a:ext cx="128160" cy="131760"/>
            <a:chOff x="8321760" y="1473120"/>
            <a:chExt cx="128160" cy="131760"/>
          </a:xfrm>
        </p:grpSpPr>
        <p:sp>
          <p:nvSpPr>
            <p:cNvPr id="324" name="30 Conector recto"/>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31 Conector recto"/>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32 Conector recto"/>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5296-B203-4942-8B81-195FFA9DF3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573120" y="1816200"/>
            <a:ext cx="7845480" cy="4743360"/>
          </a:xfrm>
          <a:prstGeom prst="rect">
            <a:avLst/>
          </a:prstGeom>
          <a:ln w="0">
            <a:noFill/>
          </a:ln>
        </p:spPr>
      </p:pic>
      <p:sp>
        <p:nvSpPr>
          <p:cNvPr id="369" name="PlaceHolder 1"/>
          <p:cNvSpPr>
            <a:spLocks noGrp="1"/>
          </p:cNvSpPr>
          <p:nvPr>
            <p:ph type="subTitle"/>
          </p:nvPr>
        </p:nvSpPr>
        <p:spPr>
          <a:xfrm>
            <a:off x="609480" y="380880"/>
            <a:ext cx="7772400" cy="1508400"/>
          </a:xfrm>
          <a:prstGeom prst="rect">
            <a:avLst/>
          </a:prstGeom>
          <a:noFill/>
          <a:ln w="0">
            <a:noFill/>
          </a:ln>
        </p:spPr>
        <p:txBody>
          <a:bodyPr lIns="100440" rIns="900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Equipo 1 y 2</a:t>
            </a:r>
            <a:endParaRPr b="0" lang="en-US" sz="66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	</a:t>
            </a:r>
            <a:endParaRPr b="0" lang="en-US" sz="2000" spc="-1" strike="noStrike">
              <a:solidFill>
                <a:srgbClr val="ffffff"/>
              </a:solidFill>
              <a:latin typeface="Corbel"/>
            </a:endParaRPr>
          </a:p>
        </p:txBody>
      </p:sp>
    </p:spTree>
  </p:cSld>
  <p:transition spd="med">
    <p:newsflash/>
    <p:sndAc>
      <p:stSnd>
        <p:snd r:embed="rId2"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quipo 3</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Constantia"/>
              </a:rPr>
              <a:t>2.2 verificacion del estado físico de las líneas y accesorio del sistema de aire acondicionado y refrigeración, aplicando pruebas de funcionamiento.</a:t>
            </a:r>
            <a:endParaRPr b="0" lang="en-US" sz="19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Constantia"/>
              </a:rPr>
              <a:t>Nos explicaba el profe que hay que checar las líneas, que solo puede tener 2 curvas como máximo porque después no puede fluir bien en las líneas.Tambien menciono revisar bien la tubería y que sea la adecuada ya que son muy frágiles y delicados y puede tener una rotura  y eso si puede afectar mucho en el aire acondicionado y mas porque se presenta una fuga a futuro.</a:t>
            </a:r>
            <a:endParaRPr b="0" lang="en-US" sz="19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p:transition spd="med">
    <p:newsflash/>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1eeff"/>
                </a:solidFill>
                <a:latin typeface="Constantia"/>
              </a:rPr>
              <a:t>Funcionamiento y aplicación del vacío</a:t>
            </a:r>
            <a:br>
              <a:rPr sz="3600"/>
            </a:br>
            <a:endParaRPr b="0" lang="en-US" sz="3200" spc="-1" strike="noStrike">
              <a:solidFill>
                <a:srgbClr val="c1eeff"/>
              </a:solidFill>
              <a:latin typeface="Consolas"/>
            </a:endParaRPr>
          </a:p>
        </p:txBody>
      </p:sp>
      <p:sp>
        <p:nvSpPr>
          <p:cNvPr id="373"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5000"/>
          </a:bodyPr>
          <a:p>
            <a:pPr marL="5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Constantia"/>
              </a:rPr>
              <a:t>Observamos el manómetro antes de empezar a hacer  vacío, a la derecha vemos el manómetro, con el circuito en vacío, de –30 nunca bajará mas, debiendo quedarse la aguja en este punto. Después de 30 a 40 minutos de vacío (puede ser excesivo, pero por pasarnos no estropeamos nada), en este orden. </a:t>
            </a:r>
            <a:endParaRPr b="0" lang="en-US" sz="1900" spc="-1" strike="noStrike">
              <a:solidFill>
                <a:srgbClr val="ffffff"/>
              </a:solidFill>
              <a:latin typeface="Corbel"/>
            </a:endParaRPr>
          </a:p>
          <a:p>
            <a:pPr marL="5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pic>
        <p:nvPicPr>
          <p:cNvPr id="374" name="Picture 2" descr="C:\Documents and Settings\Alumno\Escritorio\manometros.jpg"/>
          <p:cNvPicPr/>
          <p:nvPr/>
        </p:nvPicPr>
        <p:blipFill>
          <a:blip r:embed="rId1"/>
          <a:stretch/>
        </p:blipFill>
        <p:spPr>
          <a:xfrm>
            <a:off x="3994200" y="1606680"/>
            <a:ext cx="4356000" cy="4228920"/>
          </a:xfrm>
          <a:prstGeom prst="rect">
            <a:avLst/>
          </a:prstGeom>
          <a:ln w="0">
            <a:noFill/>
          </a:ln>
        </p:spPr>
      </p:pic>
    </p:spTree>
  </p:cSld>
  <p:transition spd="med">
    <p:plus/>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28240" y="1142640"/>
            <a:ext cx="3886200" cy="4800600"/>
          </a:xfrm>
          <a:prstGeom prst="rect">
            <a:avLst/>
          </a:prstGeom>
          <a:noFill/>
          <a:ln w="0">
            <a:noFill/>
          </a:ln>
        </p:spPr>
        <p:txBody>
          <a:bodyPr lIns="90000" rIns="90000" tIns="46800" bIns="46800"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onsolas"/>
              </a:rPr>
              <a:t>1º CERRAMOS LA MANETA AZUL DEL MANOMETRO, girándola a tope a la derecha. </a:t>
            </a:r>
            <a:br>
              <a:rPr sz="2200"/>
            </a:br>
            <a:r>
              <a:rPr b="0" lang="es-MX" sz="2200" spc="-1" strike="noStrike">
                <a:solidFill>
                  <a:srgbClr val="ffffff"/>
                </a:solidFill>
                <a:latin typeface="Consolas"/>
              </a:rPr>
              <a:t>2º Paramos la bomba de vacío. </a:t>
            </a:r>
            <a:br>
              <a:rPr sz="2200"/>
            </a:br>
            <a:r>
              <a:rPr b="0" lang="es-MX" sz="2200" spc="-1" strike="noStrike">
                <a:solidFill>
                  <a:srgbClr val="ffffff"/>
                </a:solidFill>
                <a:latin typeface="Consolas"/>
              </a:rPr>
              <a:t>3º Nos sentamos a descansar y esperar, debemos esperar de 20 minutos a 1 h, para determinar si el circuito es hermético, no entra aire en el mismo, por lo tanto la aguja se mantiene a –30, no subiendo hacia 0.</a:t>
            </a:r>
            <a:endParaRPr b="0" lang="en-US" sz="22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376" name="Picture 2" descr="C:\Documents and Settings\Alumno\Escritorio\presiones.jpg"/>
          <p:cNvPicPr/>
          <p:nvPr/>
        </p:nvPicPr>
        <p:blipFill>
          <a:blip r:embed="rId1"/>
          <a:stretch/>
        </p:blipFill>
        <p:spPr>
          <a:xfrm>
            <a:off x="4495680" y="1676520"/>
            <a:ext cx="4419720" cy="4267080"/>
          </a:xfrm>
          <a:prstGeom prst="rect">
            <a:avLst/>
          </a:prstGeom>
          <a:ln w="0">
            <a:noFill/>
          </a:ln>
        </p:spPr>
      </p:pic>
    </p:spTree>
  </p:cSld>
  <p:transition spd="med">
    <p:plus/>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280"/>
            <a:ext cx="7772400" cy="1087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1eeff"/>
                </a:solidFill>
                <a:latin typeface="Constantia"/>
              </a:rPr>
              <a:t>Equipo 4</a:t>
            </a:r>
            <a:br>
              <a:rPr sz="1800"/>
            </a:br>
            <a:r>
              <a:rPr b="1" lang="es-MX" sz="1800" spc="-1" strike="noStrike">
                <a:solidFill>
                  <a:srgbClr val="c1eeff"/>
                </a:solidFill>
                <a:latin typeface="Constantia"/>
              </a:rPr>
              <a:t>2.3 coloca candados de seguridad y repara las fugas detectadas en las uniones del sistema de aire acondicionado y refrigeración, considerando los procedimientos establecidos</a:t>
            </a:r>
            <a:br>
              <a:rPr sz="1800"/>
            </a:br>
            <a:endParaRPr b="0" lang="en-US" sz="18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d9dee5"/>
                </a:solidFill>
                <a:latin typeface="Corbel"/>
              </a:rPr>
              <a:t>Muchos desperfectos en los equipos de aire acondicionado suelen notarse al momento de su instalación, uno de los inconvenientes más comunes es encontrarnos con el radiador pinchado o una válvula deteriorada.</a:t>
            </a:r>
            <a:r>
              <a:rPr b="0" lang="es-MX" sz="1800" spc="-1" strike="noStrike">
                <a:solidFill>
                  <a:srgbClr val="d9dee5"/>
                </a:solidFill>
                <a:latin typeface="Corbel"/>
              </a:rPr>
              <a:t> </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9dee5"/>
                </a:solidFill>
                <a:latin typeface="Corbel"/>
              </a:rPr>
              <a:t>Aquí podemos optar por dos alternativas: si el instalador pertenece a la casa de electrodomésticos en donde compramos la consola, debemos pedir un cambio al instante, Otro problema frecuente que puede llevar a la reparación de aire acondicionado es una pérdida de gas luego de años de haber sido colocado, aquí podemos utilizar alguna masilla o elemento que cumpla la función de parche; si la fuga es muy grande, entonces debemos ya pensar en cambiar las tuberías afectadas.</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d9dee5"/>
                </a:solidFill>
                <a:latin typeface="Corbel"/>
              </a:rPr>
              <a:t>Es muy probable también que al encender un split se escuche una especie de silbido parecido a un líquido fluyendo por una pipa estrecha; de acuerdo a los técnicos especializados, dicho sonido proviene de la válvula de expansión cuando el gas que se encuentra en el evaporador fluye y por eso no hay que preocuparse, Y desmontar el armaflex y hacer el reemplazo de tubería y ver las manchas que ocaciono el vacio</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rbel"/>
              </a:rPr>
              <a:t> </a:t>
            </a:r>
            <a:endParaRPr b="0" lang="en-US" sz="18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p:transition spd="med">
    <p:push dir="d"/>
    <p:sndAc>
      <p:stSnd>
        <p:snd r:embed="rId1"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280"/>
            <a:ext cx="7772400" cy="1163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1eeff"/>
                </a:solidFill>
                <a:latin typeface="Consolas"/>
              </a:rPr>
              <a:t>Equipo 4</a:t>
            </a:r>
            <a:br>
              <a:rPr sz="1800"/>
            </a:br>
            <a:r>
              <a:rPr b="1" lang="es-MX" sz="1800" spc="-1" strike="noStrike">
                <a:solidFill>
                  <a:srgbClr val="c1eeff"/>
                </a:solidFill>
                <a:latin typeface="Consolas"/>
              </a:rPr>
              <a:t>2.4 remplaza los accesorios, componentes, motores y elementos eléctricos que presente falla en el funcionamiento de los equipos de aire acondicionado y refrigeración, considerando los procedimientos establecidos</a:t>
            </a:r>
            <a:br>
              <a:rPr sz="1800"/>
            </a:br>
            <a:endParaRPr b="0" lang="en-US" sz="1800" spc="-1" strike="noStrike">
              <a:solidFill>
                <a:srgbClr val="c1eeff"/>
              </a:solidFill>
              <a:latin typeface="Consolas"/>
            </a:endParaRPr>
          </a:p>
        </p:txBody>
      </p:sp>
      <p:sp>
        <p:nvSpPr>
          <p:cNvPr id="380" name=""/>
          <p:cNvSpPr txBox="1"/>
          <p:nvPr/>
        </p:nvSpPr>
        <p:spPr>
          <a:xfrm>
            <a:off x="914400" y="19810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Cuando hablamos de un sistema de aire acondicionado ó refrigeración, por lo general se tiende a darle importancia a la capacidad de refrigeración así como a las características técnicas del condensador, del evaporador, Válvula de de Expansión, Tuberías, etc.</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 </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rbel"/>
              </a:rPr>
              <a:t> </a:t>
            </a:r>
            <a:r>
              <a:rPr b="0" lang="es-MX" sz="1700" spc="-1" strike="noStrike">
                <a:solidFill>
                  <a:srgbClr val="ffffff"/>
                </a:solidFill>
                <a:latin typeface="Corbel"/>
              </a:rPr>
              <a:t>Es importante considerar la otra parte del sistema de enfriamiento, que es la parte eléctrica, que es con la que alimentaremos de energía al sistema para poderlo operar, es la que nos va a costar, y que se debe tener en suficiente cantidad y condiciones para satisfacer la demanda de energía requerida por el sistema de enfriamiento. La parte eléctrica se puede dividir, el sistema Eléctrico de Poder, el sistema Eléctrico de Control, el Sistema Eléctrico de Protección.</a:t>
            </a:r>
            <a:endParaRPr b="0" lang="en-US" sz="17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spd="med">
    <p:push dir="d"/>
    <p:sndAc>
      <p:stSnd>
        <p:snd r:embed="rId1" name="wind.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
          <p:cNvSpPr txBox="1"/>
          <p:nvPr/>
        </p:nvSpPr>
        <p:spPr>
          <a:xfrm>
            <a:off x="990720" y="304920"/>
            <a:ext cx="7772400" cy="6248160"/>
          </a:xfrm>
          <a:prstGeom prst="rect">
            <a:avLst/>
          </a:prstGeom>
          <a:noFill/>
          <a:ln w="0">
            <a:noFill/>
          </a:ln>
        </p:spPr>
        <p:txBody>
          <a:bodyPr lIns="90000" rIns="90000" tIns="46800" bIns="46800" anchor="t">
            <a:normAutofit fontScale="94000"/>
          </a:bodyPr>
          <a:p>
            <a:pPr marL="386280" indent="-321840" algn="ctr">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onstantia"/>
              </a:rPr>
              <a:t>Los motores Eléctricos en refrigeración se pueden clasificar de acuerdo a su uso:</a:t>
            </a:r>
            <a:endParaRPr b="0" lang="en-US" sz="18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r>
              <a:rPr b="1" lang="es-MX" sz="1700" spc="-1" strike="noStrike">
                <a:solidFill>
                  <a:srgbClr val="ffffff"/>
                </a:solidFill>
                <a:latin typeface="Constantia"/>
              </a:rPr>
              <a:t>A.- Para accionar los compres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Compresores Abiertos (con flecha visible) conectados mecánicamente por medio d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bandas y poleas, o directamente mediante un acoplamiento Compresores Herméticos, Semiherméticos, Scroll .conectados en sus flechas Internament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Constantia"/>
              </a:rPr>
              <a:t>B.- Para accionar ventil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los condens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los evaporadore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manejadoras de air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extracción e introducción de aire</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Constantia"/>
              </a:rPr>
              <a:t>C.- Para accionar Bomba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Sistemas de de aceite (compresores Tornillo)</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mover el agua fría (en Chillers)</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Para agua en maquinas de fabricación de hielo.-</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ffffff"/>
                </a:solidFill>
                <a:latin typeface="Constantia"/>
              </a:rPr>
              <a:t> </a:t>
            </a:r>
            <a:endParaRPr b="0" lang="en-US" sz="1700" spc="-1" strike="noStrike">
              <a:solidFill>
                <a:srgbClr val="ffffff"/>
              </a:solidFill>
              <a:latin typeface="Corbel"/>
            </a:endParaRPr>
          </a:p>
          <a:p>
            <a:pPr marL="386280" indent="-32184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Tree>
  </p:cSld>
  <p:transition spd="med">
    <p:pull dir="ld"/>
    <p:sndAc>
      <p:stSnd>
        <p:snd r:embed="rId1" name="whoosh.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1239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eeff"/>
                </a:solidFill>
                <a:latin typeface="Constantia"/>
              </a:rPr>
              <a:t>Equipo 5</a:t>
            </a:r>
            <a:br>
              <a:rPr sz="2000"/>
            </a:br>
            <a:r>
              <a:rPr b="0" lang="es-MX" sz="2000" spc="-1" strike="noStrike">
                <a:solidFill>
                  <a:srgbClr val="c1eeff"/>
                </a:solidFill>
                <a:latin typeface="Constantia"/>
              </a:rPr>
              <a:t>2.5 </a:t>
            </a:r>
            <a:r>
              <a:rPr b="1" lang="es-MX" sz="2000" spc="-1" strike="noStrike">
                <a:solidFill>
                  <a:srgbClr val="c1eeff"/>
                </a:solidFill>
                <a:latin typeface="Constantia"/>
              </a:rPr>
              <a:t>arranca el quipo del sistema de aire acondicionado y refrigeracion invertido, ajustando sus parametros de funcionamiento y documentando los trabajos desarrollados.</a:t>
            </a:r>
            <a:br>
              <a:rPr sz="2000"/>
            </a:br>
            <a:endParaRPr b="0" lang="en-US" sz="20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lIns="90000" rIns="90000" tIns="46800" bIns="46800" anchor="t">
            <a:normAutofit fontScale="95000"/>
          </a:bodyPr>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iagnosticar sitio y/o proceso que necesita el sistema de refrigeración y/o aire acondicionado de acuerdo con las especificaciones técnicas en tablas y diseños predeterminados, Ejecutar el montaje del sistema de refrigeración o aire acondicionado según especificaciones técnicas del fabricante,  Ajustar los parámetros del equipo de refrigeración o aire acondicionado de acuerdo con las necesidades del proceso o confort</a:t>
            </a:r>
            <a:r>
              <a:rPr b="0" lang="es-MX" sz="3000" spc="-1" strike="noStrike">
                <a:solidFill>
                  <a:srgbClr val="ffffff"/>
                </a:solidFill>
                <a:latin typeface="Corbel"/>
              </a:rPr>
              <a:t>. </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bajo de: Jordy Omar Noyola Estrada</a:t>
            </a:r>
            <a:endParaRPr b="0" lang="en-US" sz="3000" spc="-1" strike="noStrike">
              <a:solidFill>
                <a:srgbClr val="ffffff"/>
              </a:solidFill>
              <a:latin typeface="Corbel"/>
            </a:endParaRPr>
          </a:p>
          <a:p>
            <a:pPr marL="390240" indent="-3254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rupo: 6102 EMEC</a:t>
            </a:r>
            <a:endParaRPr b="0" lang="en-US" sz="3000" spc="-1" strike="noStrike">
              <a:solidFill>
                <a:srgbClr val="ffffff"/>
              </a:solidFill>
              <a:latin typeface="Corbel"/>
            </a:endParaRPr>
          </a:p>
        </p:txBody>
      </p:sp>
    </p:spTree>
  </p:cSld>
  <p:transition spd="med">
    <p:pull dir="rd"/>
    <p:sndAc>
      <p:stSnd>
        <p:snd r:embed="rId1" name="whoo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0:54:08Z</dcterms:created>
  <dc:creator>Owner</dc:creator>
  <dc:description/>
  <dc:language>en-US</dc:language>
  <cp:lastModifiedBy>Owner</cp:lastModifiedBy>
  <dcterms:modified xsi:type="dcterms:W3CDTF">2011-05-17T22:34:18Z</dcterms:modified>
  <cp:revision>11</cp:revision>
  <dc:subject/>
  <dc:title>hcgdhfgufhejkvuervru</dc:title>
</cp:coreProperties>
</file>